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7C5-4637-4525-BB56-736E5D77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4BBE-7385-464D-B70B-9C30E672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BBC-AC69-4409-8E25-4180A866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A1C-2039-4C17-8F2D-9BAFEA5E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C66-77CB-41C9-BC78-05FEBB1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731-F4B4-4F35-BE4D-F7B5642F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CF6-87A6-4389-8E38-9181FB91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CB3-399A-44AA-AEB1-907DC2E9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385-EAF1-4F3E-99CF-59D6466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2F9-ADAD-4A59-AE85-A6F51D3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F6C-B985-44B4-AF54-8DF0000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3D2-CFDB-47AD-9ADE-E4971046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E34E-8D93-4FF0-BCF1-E4B1FE8DB63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troduction / background (Koh Kheng Wah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Jerry way forward (Dirk Didascalou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00 – 11: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rrent project setup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15 – 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status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fine process (tailoring) – Thomas Bartel, Brian Mortensen (WJB 6121, 6909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Milestones for HW/SW/ST (Scrum?? – How to implement in the system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plit in 3 main groups:  HW/MD/PE, SW and 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W: define work packages, feasibility study, IM scenario, contractors, contracts, Scrumm milestone approa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chedule in separate fi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ocation: WJ-C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HW/MD/PE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BOM, suppli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will be determined on Mon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 WJ-B 612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in next slid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: WJ-B 6909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6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hops (LCM1 &amp; 3) (WJB 612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which prototype runs take place where / define handover (TELCO with KlF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 schedule Tuesday (WJ-B 6909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hedule (TA) review and calcula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2:00-13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:00-15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00-15:1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10-17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&amp;D support  and Cradle / Fixture prep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T schedule Wednesday (WJ-B 6909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0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spec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4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4:30 – 17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MD and PE will visit Perlos in BEJ all day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mmary Wednes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clearing (Zeng Yun)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Attendees PL-T, CPM, TPM, PL-SW, PL-MD, PL-HW, PL-BB, PL-LPD, PL-RF, PL-E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Visit in BEJ office from keypad suppliers for MD and P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16:00 - 17:3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15T09:05:02Z</dcterms:modified>
  <cp:revision>120</cp:revision>
  <dc:subject/>
  <dc:title>PowerPoint</dc:title>
</cp:coreProperties>
</file>